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51E-87AD-45D3-A4CE-0F2B1688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4519-76FE-475D-8746-0C319148B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0774-BC20-43D3-8C95-1A80A9AF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95AF-EFE0-41D6-A048-8E5E86CFB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9332-166B-4B8E-901A-C97A59632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E0CF-6098-4564-BE78-8BE43C305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2B8-893D-4131-85C4-4230C6E8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B26-14A2-494F-A89F-F796DF0A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DD4-1753-464B-9D31-24BA5850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CB6-E1A9-4AB6-9D83-79DB5640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F86-85BC-48AB-AD84-F5894ABA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EEA-25CB-4E3B-87E6-8A0E21C4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0DF-8F0A-4FD9-B3E4-06740FB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501-18AB-4EF0-87DA-FA6BBE09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2D3-7642-405A-A911-D0211DDE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4F-7361-48BD-A033-D84DE437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2CE-DA4B-4B74-80B6-755DF75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8C6-61D5-4EB5-9A83-CD8B3B5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4E6-30CA-444B-ABEE-A61016144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" name="Picture 4" descr="FIGURESCIRCACTIVITY.png"/>
          <p:cNvPicPr/>
          <p:nvPr/>
        </p:nvPicPr>
        <p:blipFill>
          <a:blip r:embed="rId1"/>
          <a:stretch/>
        </p:blipFill>
        <p:spPr>
          <a:xfrm>
            <a:off x="-7632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7391520" y="914400"/>
            <a:ext cx="1752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ip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un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&amp; Label the ph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s and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0-12-17T22:28:14Z</dcterms:modified>
  <cp:revision>299</cp:revision>
  <dc:subject/>
  <dc:title>PowerPoint Presentation</dc:title>
</cp:coreProperties>
</file>